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46F-17D3-40F6-BBAF-B994011C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C38-D854-4542-902F-D97C766C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501-40EE-48A3-A7DE-9BB2DB15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181-76A8-4D1F-9A29-DC8D54FE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3B9-8580-4535-B7A6-11E76C9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576-E79A-4445-A2C3-1B11ADE1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1D0-CC2A-4A03-BB93-B9995622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BF3-C227-4DBE-AA44-F1136E5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589-D727-415A-B09F-06B7EF97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4B7-7EC5-493A-88A1-93A5991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323-1D00-4C50-9878-225171B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F5A-687C-4B62-8C5F-761541C8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ff0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ff0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ff008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33B-0C0C-4588-A5FB-C7D0BFBA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Comic Sans MS"/>
              </a:rPr>
              <a:t>What music does your brain like?</a:t>
            </a:r>
            <a:endParaRPr b="0" lang="en-US" sz="40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By Taryn Gillespie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Kids seemed to do best when listening to country music over rap, pop, and the Chipmunks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Work Cited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Prescott, Jenifer O. "Music in the classroom." </a:t>
            </a:r>
            <a:r>
              <a:rPr b="0" i="1" lang="en-US" sz="2400" spc="-1" strike="noStrike">
                <a:solidFill>
                  <a:srgbClr val="ff0080"/>
                </a:solidFill>
                <a:latin typeface="Comic Sans MS"/>
              </a:rPr>
              <a:t>scholastic instructers</a:t>
            </a: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. Web. 7 May 2010. &lt;http://teacher.scholastic.com/products/instructor/jan05_music.htm&gt;.</a:t>
            </a:r>
            <a:endParaRPr b="0" lang="en-US" sz="2400" spc="-1" strike="noStrike">
              <a:solidFill>
                <a:srgbClr val="ff008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Manthi, Mike. "effects of popular and classical bacground music." </a:t>
            </a:r>
            <a:r>
              <a:rPr b="0" i="1" lang="en-US" sz="2400" spc="-1" strike="noStrike">
                <a:solidFill>
                  <a:srgbClr val="ff0080"/>
                </a:solidFill>
                <a:latin typeface="Comic Sans MS"/>
              </a:rPr>
              <a:t>classical music</a:t>
            </a: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. Web. 1 Jan. &lt;http://music.arts.usf.edu/rpme/effects.htm&gt;.</a:t>
            </a:r>
            <a:endParaRPr b="0" lang="en-US" sz="2400" spc="-1" strike="noStrike">
              <a:solidFill>
                <a:srgbClr val="ff008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"test scores." </a:t>
            </a:r>
            <a:r>
              <a:rPr b="0" i="1" lang="en-US" sz="2400" spc="-1" strike="noStrike">
                <a:solidFill>
                  <a:srgbClr val="ff0080"/>
                </a:solidFill>
                <a:latin typeface="Comic Sans MS"/>
              </a:rPr>
              <a:t>arts and smarts</a:t>
            </a: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. Web. 1 Jan. &lt;http://www.sharpbrains.com/blog/2009/04/16/arts-and-smarts-test-scores-and-cognitive-development/&gt;.</a:t>
            </a:r>
            <a:endParaRPr b="0" lang="en-US" sz="24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251160" cy="243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251160" cy="24382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251160" cy="2438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8080" y="3124080"/>
            <a:ext cx="2438640" cy="3251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Problem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In testing if different types of music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will effect the test scores of my classmates.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Have your teachers ever played music while you’re testing? Well I’m going to see what kind of music will make you get better test scores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I predict that country music will get the best test scores.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Materials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I need…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est 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D’s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lassroom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D player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est subjects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Get every body in class to clear off desk and get out a pencil. Hand out test and tell them to put name on paper. Start music and start timer while I say start. grade tests.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Possible causes of error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Laughing when music started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Distractions like people walking into room. 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he results of my project are that country music got the best scores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44:30Z</dcterms:created>
  <dc:creator>STERLING  USD376</dc:creator>
  <dc:description/>
  <dc:language>en-US</dc:language>
  <cp:lastModifiedBy>USD376</cp:lastModifiedBy>
  <cp:lastPrinted>2010-05-06T13:43:50Z</cp:lastPrinted>
  <dcterms:modified xsi:type="dcterms:W3CDTF">2010-05-07T19:56:54Z</dcterms:modified>
  <cp:revision>10</cp:revision>
  <dc:subject/>
  <dc:title>PowerPoint Presentation</dc:title>
</cp:coreProperties>
</file>